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arrow.wav" ContentType="audio/x-wav"/>
  <Override PartName="/ppt/media/applause.wav" ContentType="audio/x-wav"/>
  <Override PartName="/ppt/media/whoosh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A27-F769-4EC7-83EF-CFAB9D095C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3098-DB9C-414D-BB25-45A172F805C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593-7268-489C-ABB9-6B1F7962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05A-F573-49B0-A02A-8A6C0DF5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873-2E90-4DD8-963E-1AE11D28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635-8722-4D24-B3DC-9D2E00F4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4954-2D0D-4EE7-8FB4-B6FEF6AA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988F-F543-45E1-AB54-CE5D3CFF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89BB-F1CE-42D7-A9FC-07F0292C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9035-1373-4422-9323-A3E1E7A8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4EBE-D4A8-4E51-9CE5-7C525461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DC6A-1A8E-45A8-9ADC-3F6480BE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3944-CB51-4C8C-B4FC-BD526E0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C9B-EEF0-4CD0-96A8-87FEA045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16EA-E4F1-4B88-846B-330AE97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2020-DCEF-4892-A3FA-68EF49CF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6BA8-B10B-48E7-815F-F3F134C1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8F95-AB6C-4ECF-9994-E18C225A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BA1B-7FD4-49A5-A542-75CBCBE6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7E90-0D39-416E-9A37-FD760469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06CA-EA29-418C-B500-BC2CC709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7509-9A64-4B70-B967-04BB7EEE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6F30-05EE-4635-BA08-4EC6FDA6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8252-ACDF-420B-A70A-0CD11F8F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FB2-2453-41C1-B241-77FEBD95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7ECCA-195E-497D-B23F-1BA5C97B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9ECB-7ED2-4604-9D6D-40656017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D2C18-5F31-4E2C-9869-61E0B917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A169-7BBC-4350-8FFE-10EE944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B114-5B2C-405F-A585-FD2B0425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1603-D41E-4F85-86C3-62F24A14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638DF-82FE-4D41-8024-162ADC86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F4B6E-CB47-4C12-99CB-6544008D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952C-B6FB-4AF3-AF29-F4FFE3BE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BB80-F63E-420B-B1FF-E6A2C606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4E4-CD95-419E-B795-13003EE3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E666-AC14-4A7C-818A-1A10028F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4C11-9DE1-4ECD-BC2E-D51A02B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9B01B-5890-4A89-97BD-6B37BCCE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D9C86-016C-4377-AA38-E9AE21EA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4F930-83D3-4CB3-8513-500E7907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F86D-8A89-4DFC-8675-DA19B1C0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66D9-93E7-4F08-A74D-5852CCA9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A00E5-E0B5-4D44-994B-A3677181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2AD8-4850-488D-8125-E8B852FA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9DF-93D3-4605-B254-334741B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BBD-220E-4D37-A58E-FECFAF6F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1C5-73C4-44B6-B9CF-51B44AB0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80B-C67B-4695-B9F6-A5F52BE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76F-642B-4CDD-BF96-5F0D589A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E064-2B4F-489C-B659-DFCC1F0D5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21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22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3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34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7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40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43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46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49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5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55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8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67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7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7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76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7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82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8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9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9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96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99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0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08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1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214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21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F337-146C-4BFB-8D04-33D288F234B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9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56EE-188A-4ABC-8CB4-4ABED5E9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38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8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392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393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394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397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398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custGeom>
                      <a:avLst/>
                      <a:gdLst>
                        <a:gd name="textAreaLeft" fmla="*/ 0 w 2126880"/>
                        <a:gd name="textAreaRight" fmla="*/ 2127240 w 21268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401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404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407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410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413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416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419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422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425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428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431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434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437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440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443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446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449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452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455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458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463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466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custGeom>
                      <a:avLst/>
                      <a:gdLst>
                        <a:gd name="textAreaLeft" fmla="*/ 0 w 1423800"/>
                        <a:gd name="textAreaRight" fmla="*/ 1424160 w 142380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custGeom>
                      <a:avLst/>
                      <a:gdLst>
                        <a:gd name="textAreaLeft" fmla="*/ 0 w 765720"/>
                        <a:gd name="textAreaRight" fmla="*/ 766080 w 7657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469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472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475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478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custGeom>
                      <a:avLst/>
                      <a:gdLst>
                        <a:gd name="textAreaLeft" fmla="*/ 360 w 1887120"/>
                        <a:gd name="textAreaRight" fmla="*/ 1887840 w 18871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481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484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custGeom>
                      <a:avLst/>
                      <a:gdLst>
                        <a:gd name="textAreaLeft" fmla="*/ 0 w 1090080"/>
                        <a:gd name="textAreaRight" fmla="*/ 1090440 w 109008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487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custGeom>
                      <a:avLst/>
                      <a:gdLst>
                        <a:gd name="textAreaLeft" fmla="*/ 0 w 1972800"/>
                        <a:gd name="textAreaRight" fmla="*/ 1973160 w 197280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490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493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496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497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506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7138-A7D4-47A2-A43A-1636E10B1C6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russian-flag-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152280"/>
            <a:ext cx="3812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6" descr="2010-04-24-479pxivan_the_terrible_cropped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5" descr="napoleon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50803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Educated Russians wanted freedom, equality, and more democracy but the czars ignor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Gothic"/>
              </a:rPr>
              <a:t>World Wa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1914-World War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n and German soldiers fought against each other in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 got defeated many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Only a few vi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Food shortage caused starvation of Russi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entury Gothic"/>
              </a:rPr>
              <a:t>Russian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917-soldiers, political leaders, and factory workers forced Czar Nicholas II to give up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Vladimir Lenin leads Russian Revolution and gets 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ts up a communist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n moves capital from St. Petersburg to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4"/>
          <p:cNvSpPr txBox="1"/>
          <p:nvPr/>
        </p:nvSpPr>
        <p:spPr>
          <a:xfrm>
            <a:off x="1523880" y="441972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!!!!!!! :)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228600" y="0"/>
            <a:ext cx="865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It's always tougher in Russia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pic>
        <p:nvPicPr>
          <p:cNvPr id="590" name="Picture 7" descr="kremlin_and_red_square_fireworks,_moscow,_russia"/>
          <p:cNvPicPr/>
          <p:nvPr/>
        </p:nvPicPr>
        <p:blipFill>
          <a:blip r:embed="rId1"/>
          <a:stretch/>
        </p:blipFill>
        <p:spPr>
          <a:xfrm>
            <a:off x="3124080" y="19810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Dan Nguyen</cp:lastModifiedBy>
  <dcterms:modified xsi:type="dcterms:W3CDTF">2010-12-20T23:55:58Z</dcterms:modified>
  <cp:revision>10</cp:revision>
  <dc:subject/>
  <dc:title>The History of Russia until 1917</dc:title>
</cp:coreProperties>
</file>